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750-A017-457C-8C80-EE16EEBB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D42-D9AD-424B-A654-10298539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60E-B732-40CB-96DD-1DD55F55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29C-1110-4809-9A6D-6D7847BD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C589-394C-4DD6-AFAC-31F22B1B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801E-E567-4D6B-B36B-31A415C3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E588-0279-45C1-8EB6-87C637A8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A99C-DCFA-4A9A-A58F-593BCF3B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8E33-4C05-4F49-9A75-98198F3C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DF44-19D8-422C-BA1E-43BE9223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F763-6E3E-4050-AEE9-49A6CC7B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2BD-2C05-40F3-A12A-727FC755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2E20-38CA-4490-9913-DDC22D64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2223-825D-4148-B016-41A2ACB2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7E14-65D0-4792-9796-7E503C9D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7484-96E2-46C5-A802-6A765F69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370C-A59A-4FD1-A548-E83E9486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C69-97D5-4245-9EFF-965AEAFE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4D4-1535-43B7-B24D-253AD3CA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511-CCF0-4479-B29D-F37F99C0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4FE-F732-447B-9A2D-DBBA39DC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E59-3E19-4C8C-8843-CEFB497A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D6D-8083-41B5-96FB-02C673F5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4852-5C67-45F7-9576-85D1229F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8B18-E1AB-4353-B368-3D9DF12EA83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FF1C-6ABB-488D-B3CE-5D1E274FE207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Травмы в походе - общие принципы оказания помощ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Добрушина Ольга, 2006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71640" y="525600"/>
            <a:ext cx="698508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913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456000" cy="329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529080" cy="341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3024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232160" cy="4464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568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4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00480" y="2060640"/>
            <a:ext cx="40435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ртериаль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еноз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пилляр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1989000"/>
            <a:ext cx="3456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т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нутренне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907640" y="1484280"/>
            <a:ext cx="792360" cy="432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413000"/>
            <a:ext cx="936720" cy="576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392200" cy="4746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23680" y="45864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Пальцевое прижатие артер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5832360" cy="1230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661840" y="18900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Наложение жгу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сновные правила наложения жгут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ть на голую кожу, на ран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ется: в середине плеча, в нижней трети голеностоп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ла - минимальная достаточная для остановки кровотеч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ерез полчаса проверить остановку кровотечения , если не остановилось - повторить налож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закрывать жгут одежд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пис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медленно доставить в лечебное учрежд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е 2 часа летом и 0,5ч - зимой проводить ослабление жгу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935080" cy="4381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768560" cy="3433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780000" y="2320920"/>
            <a:ext cx="5832360" cy="403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2760480" cy="2847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093080" y="4724280"/>
            <a:ext cx="1728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2490480" cy="3024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074480" y="811080"/>
            <a:ext cx="491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рекись водоро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ибидил (хлоргексидина биглюконат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рамист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урацилл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т.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07040" y="3333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Мяг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19640" y="4292640"/>
            <a:ext cx="2997360" cy="2387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43800" y="393372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Жест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39720" y="4581360"/>
            <a:ext cx="159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пир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Йод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«Зелёнка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14889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11280" y="1155960"/>
            <a:ext cx="7632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 накладывать на голую кожу (нужны мягкие прокладки), на ран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ставить травмированное место в том положении, в котором его нашли е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должна перекрывать как минимум два соседних с переломом суста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учше накладывать по бокам конечности, менее удобно – по передней или задней сторонам конеч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чественная фиксац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не должна нарушать кровообращ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16440" y="47304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Основные правила наложения ши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3944880" cy="19508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537080" cy="39765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853560" y="62064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Верх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759280" cy="2747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627280" y="692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Перелом ключи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3098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808200" y="47628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Нижние 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067280" y="1844640"/>
            <a:ext cx="1712880" cy="3963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516720" y="2997360"/>
            <a:ext cx="21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0872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172720" cy="1968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833280" y="76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Кости та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75640" cy="17398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634200" y="62064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Позвоночни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1776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ш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себе (один человек, несколько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носилка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яг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олу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2247840" y="476280"/>
            <a:ext cx="44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Способы транспортиров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Частные случаи трав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120000" cy="3252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елом позвоночник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ерепно-мозговая трав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826000" cy="3159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283356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597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спирация инородного те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9640" y="1797120"/>
            <a:ext cx="8280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Острый живот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пасность – кровотечение, перитони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мощь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 поко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озможно применение антибиот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езболивание не показано, но..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428760"/>
            <a:ext cx="640872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осовое 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567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нородное тело в гл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14320" cy="20764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238120" cy="1781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6012000" y="1700280"/>
            <a:ext cx="2238120" cy="19238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1835280" y="4221000"/>
            <a:ext cx="2238120" cy="18576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5508720" y="4221000"/>
            <a:ext cx="1714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Ушибы и растяж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441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948360" y="134136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90760" y="1197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Хол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47560" y="12682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НПВ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0920" y="3716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940360" y="4653000"/>
            <a:ext cx="2592360" cy="15429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924160" y="386064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4. Разогревающ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через 1-3 суток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539640" y="429264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2916360" y="3645000"/>
            <a:ext cx="1728720" cy="14605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2195640" y="501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рез пальц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325600" cy="15415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286000" cy="163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492360" y="4508640"/>
            <a:ext cx="2381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тёртости и мозол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449800" cy="13064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37040" y="121140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Внимание к обуви, носкам и нога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3880" y="337176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Своевременное использование пластыр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2640" y="515772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В походе практически не лечатся, но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терильная повяз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анозаживляюще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ротыкать или нет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1390680" cy="19047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1376280" cy="15051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1116000" y="3860640"/>
            <a:ext cx="2448000" cy="11829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4572000" y="3789360"/>
            <a:ext cx="1368360" cy="1035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6659640" y="5445000"/>
            <a:ext cx="736560" cy="1224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tretch/>
        </p:blipFill>
        <p:spPr>
          <a:xfrm>
            <a:off x="4932360" y="558972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Реализация принципа «Не навреди!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передвигайте пострадавшего с серьезными травм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авайте пищу и воду, если не увере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елайте действий, перекрывающих дыхательные пути (не кладите плашмя, не подкладывайте под голову подушку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ердечно-лёгочная реанимац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Обеспечение проходимости дыхательных путе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2 вдох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рекардиальный удар 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дох:надавливание на грудную клетку = 2:15 (один реаниматор) или 1:5 (два реаниматора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онтроль эффективн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54723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6900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31366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57:39Z</dcterms:created>
  <dc:creator>Добрушина</dc:creator>
  <dc:description/>
  <dc:language>en-US</dc:language>
  <cp:lastModifiedBy>Добрушина</cp:lastModifiedBy>
  <dcterms:modified xsi:type="dcterms:W3CDTF">2006-06-05T23:20:36Z</dcterms:modified>
  <cp:revision>36</cp:revision>
  <dc:subject/>
  <dc:title>Слайд 1</dc:title>
</cp:coreProperties>
</file>